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518-AD52-464B-BA57-2CF0A64A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00888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118-0A8B-4F63-B7B5-6F298C4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12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3D7-F827-4E0E-821A-85ADE2DE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812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48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812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48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FFC-6613-4186-9388-7258C1C4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4A7-B5FF-4BFE-B8C0-B7532F8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9D1-59A5-40D0-8AF3-711F50CB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8DE-5574-46BB-B189-46113B6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C9F-130B-4635-A43D-55AD27CF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92280" y="463680"/>
            <a:ext cx="7759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2DB-8236-4838-9114-372CDA5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F1E-4A13-4EF4-AA98-C167C3F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12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1A8-5A4D-4A4A-BB2C-C773150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731-2077-45E0-BC46-F72DFFE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51474E-C7C1-4DAD-A5FA-5DD6B2C61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63de8"/>
              </a:buClr>
              <a:buSzPct val="64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63d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692280" y="142560"/>
            <a:ext cx="769680" cy="536400"/>
          </a:xfrm>
          <a:prstGeom prst="triangle">
            <a:avLst>
              <a:gd name="adj" fmla="val 499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595440" y="158400"/>
            <a:ext cx="769680" cy="536400"/>
          </a:xfrm>
          <a:prstGeom prst="triangle">
            <a:avLst>
              <a:gd name="adj" fmla="val 49986"/>
            </a:avLst>
          </a:prstGeom>
          <a:solidFill>
            <a:srgbClr val="99cc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240" y="990720"/>
            <a:ext cx="7770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9280" y="103176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92280" y="6111720"/>
            <a:ext cx="7770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3960" y="615312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79f"/>
                </a:solidFill>
                <a:latin typeface="Times New Roman"/>
              </a:rPr>
              <a:t>Object Query Language - OQL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he ODMG query language or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he object SQ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 C++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1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is declarativ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can be used interactively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embedded in C++ makes programs simple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can be seamlessly optimised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guarantees logical/physical independenc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. SQL2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11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supports complex object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supports method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. SQL3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is stable, implemented, available while SQL3 is still in the design proces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is a simple query language while SQL3 is a full DB PL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definition takes 20 pages while SQL3 is currently 1300 pag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can match different data models (C++, ODMG, SQL2, SQL3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bject Query Language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0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o browse easily an object database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either interactively (ad-hoc queries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or embedded in programming languag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OQL is declarative (as opposed to procedural) which allows ODBMS seamless operation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algebraic transformation: expressions factorisation, priority to selections, constant expressions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access path: index, clustering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Stand alone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select struct(n: p.name, s: p.sex)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from People as 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where p.age &lt; 18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Embedded in C++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d_oql_execute(teenagers,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“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lect p from People as p where p.age &lt; 18”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nd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stant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1.0; true; “A String”; ni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Named object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eople; president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.age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or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-&gt;age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(syntax for attributes and methods is identical)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I[i]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tor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Numerical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+ - * / mod abs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Comparison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=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!=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 &gt;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 &lt;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Boolean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not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and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Object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Employee(name: “John”, salary: 15000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Collection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Vector(1, 2, 3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Structure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truct(name: p.name, age: p.age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Litteral collection: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t(1, 2, 3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tors on Collection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26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intersect union except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select result (x, y, …) from col1 as x, col2 as y, …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where predicate(x, y, …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Quantifica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or all x in collection: predicate(x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exists x in collection: predicate(x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element(singleton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latten(collection_of_collections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Aggregation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select *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rom Employees as e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group by e.department as departments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order by avg(select e.salary from partition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The type of the result is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List&lt;struct(department: integer,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partition: Bag&lt;struct(e:Employee)&gt; &gt;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and SQL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Fully compliant to ODMG, C++ and Smalltalk model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accepts path expression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address.city.nam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fornames[2]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79f"/>
                </a:solidFill>
                <a:latin typeface="Courier New"/>
              </a:rPr>
              <a:t>Person(name: “Smith”, fornames: array(“John”, “Paul”))</a:t>
            </a:r>
            <a:endParaRPr b="0" lang="en-US" sz="16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perator and operands are orthogonal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Methods call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ag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When OQL meets SQL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QL syntax for select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lect … from … where … group by … order by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quivalent variable scope rul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quivalent </a:t>
            </a: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select * </a:t>
            </a: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QL ad hoc notation such as “abbreviations” are possible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5:10:16Z</dcterms:created>
  <dc:creator>Department of Informatics</dc:creator>
  <dc:description/>
  <dc:language>en-US</dc:language>
  <cp:lastModifiedBy>Anya Sotiropoulou</cp:lastModifiedBy>
  <cp:lastPrinted>1997-05-19T16:16:16Z</cp:lastPrinted>
  <dcterms:modified xsi:type="dcterms:W3CDTF">1998-05-27T07:19:30Z</dcterms:modified>
  <cp:revision>18</cp:revision>
  <dc:subject/>
  <dc:title>Object Query Language - OQ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di.uoa.gr/~toobis/</vt:lpwstr>
  </property>
  <property fmtid="{D5CDD505-2E9C-101B-9397-08002B2CF9AE}" pid="9" name="LinkColor">
    <vt:r8>16711782</vt:r8>
  </property>
  <property fmtid="{D5CDD505-2E9C-101B-9397-08002B2CF9AE}" pid="10" name="MailAddress">
    <vt:lpwstr>toobis@di.uoa.gr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anya\toobis\seminar\patra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